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D8F-F898-419F-86CD-4C43D001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CA68-6DE3-4951-9B36-D0E2AA17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94E3-15BE-4CAE-A9CA-B1B68455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B78-C699-4BF6-B7F6-85332A07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541A-749A-45CF-A8E8-C14B6EE1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0FF0-0749-409E-84C3-1CA344F6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264-AF93-414E-B279-65169CA6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9812-C41B-4555-8688-06A82AFE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CED1-DF81-4A2E-AC2B-3DC9869B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5ED-F10C-477E-87C1-675E690F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2F50-4163-464E-BADB-B77328F9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64C-4454-45A7-870C-A8B7913D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EC77-0A19-47F7-AE03-AFF2CA45D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irmenmesse.at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5324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Verdana"/>
              </a:rPr>
              <a:t>32. Firmenmes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Verdana"/>
                <a:ea typeface="Times New Roman"/>
              </a:rPr>
              <a:t>Mittwoch, 20. Oktober 9.00-17.00 Uh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Verdana"/>
                <a:ea typeface="Times New Roman"/>
              </a:rPr>
              <a:t>Freihaus TU Wie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Über 40 Topfirmen suchen neue Mitarbeiter. Du kannst dich bei Abteilungsleitern und Personalchefs aus erster Hand informie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Verdana"/>
                <a:ea typeface="Times New Roman"/>
              </a:rPr>
              <a:t>Vorbereitung zählt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●   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Informiere dich vor der Messe über die Fir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  <a:ea typeface="Times New Roman"/>
              </a:rPr>
              <a:t>     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Verdana"/>
                <a:ea typeface="Times New Roman"/>
                <a:hlinkClick r:id="rId1"/>
              </a:rPr>
              <a:t>www.firmenmesse.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●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  <a:ea typeface="Times New Roman"/>
              </a:rPr>
              <a:t>Nimm e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inen Lebenslauf, oder besser eine komplet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  <a:ea typeface="Times New Roman"/>
              </a:rPr>
              <a:t>Bewerbungsmappe, 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117440" cy="122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1680" y="1557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IA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451640" y="479520"/>
            <a:ext cx="862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6408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Verdana"/>
              </a:rPr>
              <a:t>Bewerbungssemina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2560" y="2060640"/>
            <a:ext cx="8569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500" spc="-1" strike="noStrike">
                <a:solidFill>
                  <a:srgbClr val="000099"/>
                </a:solidFill>
                <a:latin typeface="Verdana"/>
              </a:rPr>
              <a:t>„</a:t>
            </a:r>
            <a:r>
              <a:rPr b="1" lang="de-DE" sz="2500" spc="-1" strike="noStrike">
                <a:solidFill>
                  <a:srgbClr val="000099"/>
                </a:solidFill>
                <a:latin typeface="Verdana"/>
              </a:rPr>
              <a:t>Wie bewerbe ich mich richtig?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Datum: 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Donnerstag 14. Ok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Zeit: 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18:00h-19.3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Ort: 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Freihaus Hörsaa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Verdana"/>
              </a:rPr>
              <a:t>Vortrag: 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Pendl &amp; Pisw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              </a:t>
            </a:r>
            <a:r>
              <a:rPr b="0" lang="de-DE" sz="2000" spc="-1" strike="noStrike">
                <a:solidFill>
                  <a:srgbClr val="000099"/>
                </a:solidFill>
                <a:latin typeface="Verdana"/>
              </a:rPr>
              <a:t>(Management &amp; Personalber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5T13:55:05Z</dcterms:created>
  <dc:creator>franzf</dc:creator>
  <dc:description/>
  <dc:language>en-US</dc:language>
  <cp:lastModifiedBy>franzf</cp:lastModifiedBy>
  <dcterms:modified xsi:type="dcterms:W3CDTF">2004-10-06T17:38:49Z</dcterms:modified>
  <cp:revision>12</cp:revision>
  <dc:subject/>
  <dc:title>32. Firmenmesse</dc:title>
</cp:coreProperties>
</file>