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A29-9017-4897-ABF6-52B85643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398-9031-4FCD-A4C8-6E8D5C4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9AD-A729-49F0-8F71-C6153984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5AA-F7BC-4981-B837-6C2A61E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F02-CF87-4828-A6B9-76C21BAC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782-6938-4547-8A1B-1595A9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9A2-0585-459B-85B1-02C5BFA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1C4-146F-4C01-BF36-776D1F4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238-433C-4373-8BC4-C89A0317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57B-6545-4260-A43F-132261F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5F1-5B4B-42DC-A80A-C92BFC0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CEE-3D68-4BD3-BFE3-753A93AA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DDB4-E27E-4B7C-8EDD-CEF8B24B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rmenmesse.a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324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32. Firmenmes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Mittwoch, 20. Oktober 9.00-17.00 Uh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Freihaus TU Wi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Über 40 Topfirmen suchen neue Mitarbeiter. Du kannst dich bei Abteilungsleitern und Personalchefs aus erster Hand informi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Vorbereitung zähl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●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formiere dich vor der Messe über die Fir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1"/>
              </a:rPr>
              <a:t>www.firmenmesse.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●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Nimm 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en Lebenslauf, oder besser eine komplet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werbungsmappe,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1744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1680" y="1557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IA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51640" y="479520"/>
            <a:ext cx="862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40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Bewerbungssemin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2060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99"/>
                </a:solidFill>
                <a:latin typeface="Verdana"/>
              </a:rPr>
              <a:t>„</a:t>
            </a:r>
            <a:r>
              <a:rPr b="1" lang="de-DE" sz="2500" spc="-1" strike="noStrike">
                <a:solidFill>
                  <a:srgbClr val="000099"/>
                </a:solidFill>
                <a:latin typeface="Verdana"/>
              </a:rPr>
              <a:t>Wie bewerbe ich mich richtig?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atum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onnerstag 14. Ok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Zeit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8:00h-19.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Ort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reihaus Hörsaa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Vortrag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endl &amp; Pisw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(Management &amp; Personalber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5:05Z</dcterms:created>
  <dc:creator>franzf</dc:creator>
  <dc:description/>
  <dc:language>en-US</dc:language>
  <cp:lastModifiedBy>franzf</cp:lastModifiedBy>
  <dcterms:modified xsi:type="dcterms:W3CDTF">2004-10-06T17:38:49Z</dcterms:modified>
  <cp:revision>12</cp:revision>
  <dc:subject/>
  <dc:title>32. Firmenmesse</dc:title>
</cp:coreProperties>
</file>