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127-645B-4C98-A6BF-C34F1B08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D23-DB98-497B-87F0-4A28F5CA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B17-6BBA-4AA2-A2BC-C3773DCA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192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804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192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804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F46-A1BA-4D99-8D38-45366829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75E1-8C12-4F03-9093-91DFD030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641B-19CF-43CC-BD04-5DD53E0A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BCE-2A6A-449F-B7B9-CD808CA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EB5E-AC24-4C46-A535-80AAE05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031B-69F1-4654-95A9-8C32A73F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FFC-731A-43A5-B782-3D5D47E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C3E1-8010-4E0E-8A08-F05757A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C36-DA4F-4896-A88E-877242C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2523-8B48-4956-A949-C72C1E5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BEAD-6A02-4CB1-889A-D15C972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BB83-342E-4D26-87D5-496EF290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B43A-C50F-4A6A-B33D-AD0A3649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192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804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192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804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707B-C9D9-419C-A74C-918BAB6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E85-745D-4C51-8E06-6EBC5E0A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D60-04FD-4E85-A5FD-4BC97919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3CB-4478-4F44-8FFE-ABC2EB79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A50-8B85-4B5D-A0CF-392E368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D73-3485-4001-94FD-7BA5AF4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866-A348-41A4-AC1D-8150E19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CCF-0C8A-4BE3-8438-9C679CBD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366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366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588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588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85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19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AA0B-DDB6-43B9-ABED-9D6A7A66DC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DE14-0DE2-4A9E-BE04-14E04A2982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ield Modifiable Architecture and its Design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560" y="30481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Kenshu Seto, Yoshihisa Kojima, Hiroshi Sait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Satoshi Komatsu and Masahiro Fuj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ept. of Electronic Eng., University of Toky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7-3-1 Hongo, Bunkyo-ku, Tokyo, 113-8656 Ja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el: +81-3-5841-676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{seto, kojima, saito, komatsu, fujita}@cad.t.u-tokyo.ac.j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176480" y="206280"/>
            <a:ext cx="752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olving Binate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6800" y="1287360"/>
            <a:ext cx="8228160" cy="1921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 between node and match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1 = 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G outpu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2 = 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*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 inpu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3 = 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*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1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1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5640" y="3440160"/>
            <a:ext cx="82504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1*F2*F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cost functions are represented by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TB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Multi-Terminal Binary Decision Diagram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best solution ar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3280" y="4871880"/>
            <a:ext cx="4519440" cy="163044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solu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1=0,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2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m3=0,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4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5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m6=0,m7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instru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9350000">
            <a:off x="6000840" y="4974840"/>
            <a:ext cx="706320" cy="15271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504200" y="5864400"/>
            <a:ext cx="439560" cy="431640"/>
            <a:chOff x="7504200" y="5864400"/>
            <a:chExt cx="439560" cy="431640"/>
          </a:xfrm>
        </p:grpSpPr>
        <p:sp>
          <p:nvSpPr>
            <p:cNvPr id="478" name=""/>
            <p:cNvSpPr/>
            <p:nvPr/>
          </p:nvSpPr>
          <p:spPr>
            <a:xfrm>
              <a:off x="7504200" y="586440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77280" y="608004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23800" y="593640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896160" y="5168880"/>
            <a:ext cx="439560" cy="432000"/>
            <a:chOff x="6896160" y="5168880"/>
            <a:chExt cx="439560" cy="432000"/>
          </a:xfrm>
        </p:grpSpPr>
        <p:sp>
          <p:nvSpPr>
            <p:cNvPr id="482" name=""/>
            <p:cNvSpPr/>
            <p:nvPr/>
          </p:nvSpPr>
          <p:spPr>
            <a:xfrm>
              <a:off x="6896160" y="516888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69240" y="538488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15760" y="524052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297560" y="5568840"/>
            <a:ext cx="29232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714800" y="4826160"/>
            <a:ext cx="24300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00680" y="4842000"/>
            <a:ext cx="328680" cy="37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230600" y="4808520"/>
            <a:ext cx="35100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29560" y="63007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408720" y="5853240"/>
            <a:ext cx="439920" cy="431640"/>
            <a:chOff x="6408720" y="5853240"/>
            <a:chExt cx="439920" cy="431640"/>
          </a:xfrm>
        </p:grpSpPr>
        <p:sp>
          <p:nvSpPr>
            <p:cNvPr id="491" name=""/>
            <p:cNvSpPr/>
            <p:nvPr/>
          </p:nvSpPr>
          <p:spPr>
            <a:xfrm>
              <a:off x="6408720" y="585324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606888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8680" y="592524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89840" y="556740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776640" y="5578560"/>
            <a:ext cx="260280" cy="33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7960" y="6302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857920" y="5180040"/>
            <a:ext cx="439560" cy="431640"/>
            <a:chOff x="5857920" y="5180040"/>
            <a:chExt cx="439560" cy="431640"/>
          </a:xfrm>
        </p:grpSpPr>
        <p:sp>
          <p:nvSpPr>
            <p:cNvPr id="498" name=""/>
            <p:cNvSpPr/>
            <p:nvPr/>
          </p:nvSpPr>
          <p:spPr>
            <a:xfrm>
              <a:off x="5857920" y="518004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73480" y="529344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976000" y="529092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589720" y="4838760"/>
            <a:ext cx="3474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14680" y="4836960"/>
            <a:ext cx="338040" cy="40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11920" y="5105520"/>
            <a:ext cx="600120" cy="59832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12040" y="5794200"/>
            <a:ext cx="600120" cy="5972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76840" y="592128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04080" y="621180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5200" y="50259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99880" y="176040"/>
            <a:ext cx="741348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Generation by 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95240" y="3726000"/>
            <a:ext cx="7351560" cy="2845440"/>
            <a:chOff x="795240" y="3726000"/>
            <a:chExt cx="7351560" cy="2845440"/>
          </a:xfrm>
        </p:grpSpPr>
        <p:sp>
          <p:nvSpPr>
            <p:cNvPr id="510" name=""/>
            <p:cNvSpPr/>
            <p:nvPr/>
          </p:nvSpPr>
          <p:spPr>
            <a:xfrm>
              <a:off x="2278080" y="5758920"/>
              <a:ext cx="83520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A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78080" y="4461120"/>
              <a:ext cx="177516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gFil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20280" y="4461120"/>
              <a:ext cx="106524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gfil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17680" y="5758920"/>
              <a:ext cx="83556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Shift</a:t>
              </a:r>
              <a:br>
                <a:rPr sz="2000"/>
              </a:b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A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20280" y="5758920"/>
              <a:ext cx="179604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Xor-X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4600" y="4461120"/>
              <a:ext cx="835560" cy="8125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e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44200" y="4461120"/>
              <a:ext cx="835560" cy="8125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e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89920" y="4461120"/>
              <a:ext cx="62676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78400" y="5758920"/>
              <a:ext cx="121176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868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956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044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264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352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4444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378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8844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078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990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312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6756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220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252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1768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63400" y="4461120"/>
              <a:ext cx="62676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95240" y="3837960"/>
              <a:ext cx="735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5240" y="3726000"/>
              <a:ext cx="735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54600" y="3974040"/>
              <a:ext cx="0" cy="178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45800" y="3974040"/>
              <a:ext cx="0" cy="178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8100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220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7660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5240" y="3950640"/>
              <a:ext cx="735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23720" y="1320840"/>
            <a:ext cx="825840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code generator is desired for complex architecture. (Traditional code generator produce poor quality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6040" y="2631960"/>
            <a:ext cx="8274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GFSM(Code Generation FSM)-based code gen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been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76720" y="2268360"/>
            <a:ext cx="682560" cy="3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35080" y="1579680"/>
            <a:ext cx="1523880" cy="16761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99680" y="5634000"/>
            <a:ext cx="4021200" cy="9169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ld r1,(addr) || ld r2,(ad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add r3,r1,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t (addr),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5640" y="263520"/>
            <a:ext cx="7612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Generation Flow by 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1938240" y="3267000"/>
            <a:ext cx="3111480" cy="4716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GFSM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41280" y="4964040"/>
            <a:ext cx="4488120" cy="4986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ymbolic Analysis of CG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36720" y="2736720"/>
            <a:ext cx="601920" cy="525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592080" y="2728800"/>
            <a:ext cx="762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90920" y="3738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84440" y="54658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90920" y="4653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11040" y="1731960"/>
            <a:ext cx="1295280" cy="1447560"/>
            <a:chOff x="311040" y="1731960"/>
            <a:chExt cx="1295280" cy="1447560"/>
          </a:xfrm>
        </p:grpSpPr>
        <p:sp>
          <p:nvSpPr>
            <p:cNvPr id="557" name=""/>
            <p:cNvSpPr/>
            <p:nvPr/>
          </p:nvSpPr>
          <p:spPr>
            <a:xfrm>
              <a:off x="311040" y="1731960"/>
              <a:ext cx="485640" cy="321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0680" y="1731960"/>
              <a:ext cx="485640" cy="321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6680" y="2295000"/>
              <a:ext cx="323640" cy="321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5680" y="2857680"/>
              <a:ext cx="485640" cy="321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4680" y="2053800"/>
              <a:ext cx="2426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039680" y="2053800"/>
              <a:ext cx="2426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58680" y="2616480"/>
              <a:ext cx="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5521320" y="1201680"/>
            <a:ext cx="3228840" cy="34480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ld(addr)-&gt;reg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resource: read_port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{ ld  reg,(addr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st(addr)-&gt;reg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resource: write_port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{ st  (addr),reg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plus(reg, reg)-&gt;reg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resource: ALU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{ add  reg,reg,reg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81280" y="2243160"/>
            <a:ext cx="303120" cy="12384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36"/>
                  <a:pt x="192" y="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59440" y="2243160"/>
            <a:ext cx="41580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93760" y="2063880"/>
            <a:ext cx="1230480" cy="65700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16480" y="2030400"/>
            <a:ext cx="1565280" cy="69840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l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4043520"/>
            <a:ext cx="1692360" cy="60948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G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70160" y="5770440"/>
            <a:ext cx="2414520" cy="64476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mbl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73520" y="6033960"/>
            <a:ext cx="317520" cy="13176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27240" y="228240"/>
            <a:ext cx="696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used in CG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506520" y="3716280"/>
            <a:ext cx="8076960" cy="1373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For this simple example DF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Input variables are (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tate variables are (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 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2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 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3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8600" y="5241960"/>
            <a:ext cx="81104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1 when executing match 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1 when operand of node i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1 when node i is co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23840" y="1039680"/>
            <a:ext cx="7165080" cy="2550960"/>
            <a:chOff x="1023840" y="1039680"/>
            <a:chExt cx="7165080" cy="2550960"/>
          </a:xfrm>
        </p:grpSpPr>
        <p:sp>
          <p:nvSpPr>
            <p:cNvPr id="576" name=""/>
            <p:cNvSpPr/>
            <p:nvPr/>
          </p:nvSpPr>
          <p:spPr>
            <a:xfrm>
              <a:off x="3898800" y="3035880"/>
              <a:ext cx="763200" cy="55476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84720" y="1489320"/>
              <a:ext cx="763560" cy="55476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26200" y="1481400"/>
              <a:ext cx="765000" cy="55476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12560" y="2221560"/>
              <a:ext cx="545760" cy="56448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62480" y="1555560"/>
              <a:ext cx="61848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91720" y="1555560"/>
              <a:ext cx="61848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74480" y="2305800"/>
              <a:ext cx="410400" cy="39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76200" y="3108960"/>
              <a:ext cx="617040" cy="39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07360" y="1952280"/>
              <a:ext cx="387720" cy="35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379400" y="1952280"/>
              <a:ext cx="36540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77880" y="2705400"/>
              <a:ext cx="0" cy="36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29360" y="10490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07040" y="220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91120" y="30618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98200" y="10396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83240" y="174564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ja-JP" sz="1800" spc="-1" strike="noStrike">
                  <a:solidFill>
                    <a:srgbClr val="000000"/>
                  </a:solidFill>
                  <a:latin typeface="Tahoma"/>
                </a:rPr>
                <a:t>1,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38520" y="178128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ja-JP" sz="1800" spc="-1" strike="noStrike">
                  <a:solidFill>
                    <a:srgbClr val="000000"/>
                  </a:solidFill>
                  <a:latin typeface="Tahoma"/>
                </a:rPr>
                <a:t>2,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25960" y="244260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ja-JP" sz="1800" spc="-1" strike="noStrike">
                  <a:solidFill>
                    <a:srgbClr val="000000"/>
                  </a:solidFill>
                  <a:latin typeface="Tahoma"/>
                </a:rPr>
                <a:t>3,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71120" y="3021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23840" y="1575000"/>
              <a:ext cx="61704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68200" y="1575000"/>
              <a:ext cx="61704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32240" y="2360520"/>
              <a:ext cx="413280" cy="39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30720" y="3137760"/>
              <a:ext cx="618480" cy="398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68360" y="1973160"/>
              <a:ext cx="408240" cy="38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893960" y="1969920"/>
              <a:ext cx="429120" cy="3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38880" y="2760120"/>
              <a:ext cx="144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44360" y="114588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75720" y="1508760"/>
              <a:ext cx="617040" cy="3981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20080" y="1508760"/>
              <a:ext cx="617040" cy="3981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85560" y="2292480"/>
              <a:ext cx="411840" cy="3999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82600" y="3070080"/>
              <a:ext cx="618480" cy="3981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20240" y="1905480"/>
              <a:ext cx="408240" cy="38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946200" y="1902240"/>
              <a:ext cx="429120" cy="3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90760" y="2692440"/>
              <a:ext cx="144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43080" y="115056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77200" y="227016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72080" y="304740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27240" y="208080"/>
            <a:ext cx="743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Transitions of CG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901440" y="294948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4000" y="352260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04680" y="388764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54120" y="294948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30240" y="321624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08040" y="321156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87360" y="3589200"/>
            <a:ext cx="243000" cy="217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978360"/>
            <a:ext cx="36324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87280" y="343224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459080" y="3421080"/>
            <a:ext cx="15696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401480" y="3809880"/>
            <a:ext cx="324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6960" y="2922480"/>
            <a:ext cx="1419120" cy="138924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70280" y="1239840"/>
            <a:ext cx="1419120" cy="1389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10040" y="1494000"/>
            <a:ext cx="363240" cy="2156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87840" y="148896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67160" y="1866960"/>
            <a:ext cx="243000" cy="217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98760" y="225576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7080" y="1709640"/>
            <a:ext cx="166680" cy="16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638160" y="1698480"/>
            <a:ext cx="15732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580920" y="2087640"/>
            <a:ext cx="324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86120" y="2917800"/>
            <a:ext cx="1419120" cy="1389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5880" y="3171960"/>
            <a:ext cx="36360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03680" y="316692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83000" y="3544920"/>
            <a:ext cx="243000" cy="217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14600" y="393372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82920" y="3387600"/>
            <a:ext cx="166680" cy="16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654000" y="3376440"/>
            <a:ext cx="15732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596760" y="3765600"/>
            <a:ext cx="324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87560" y="4586400"/>
            <a:ext cx="1419480" cy="1388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7320" y="484020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705120" y="483552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84440" y="5213520"/>
            <a:ext cx="243000" cy="217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16400" y="560232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84720" y="505620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656160" y="5045040"/>
            <a:ext cx="15696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598560" y="5433840"/>
            <a:ext cx="324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65840" y="2924280"/>
            <a:ext cx="1419120" cy="1388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05240" y="317808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3400" y="3173400"/>
            <a:ext cx="36324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3551400"/>
            <a:ext cx="242640" cy="2174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94320" y="394020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2640" y="339408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734080" y="3382920"/>
            <a:ext cx="15696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676480" y="3772080"/>
            <a:ext cx="324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47080" y="2930400"/>
            <a:ext cx="1419120" cy="138924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86480" y="318456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964640" y="3179880"/>
            <a:ext cx="363240" cy="2156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43960" y="3557520"/>
            <a:ext cx="242640" cy="2174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75560" y="3946680"/>
            <a:ext cx="363600" cy="2156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43880" y="340056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7915320" y="3389400"/>
            <a:ext cx="15696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7857720" y="3778200"/>
            <a:ext cx="324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2841480"/>
            <a:ext cx="1620720" cy="157032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8320" y="2828880"/>
            <a:ext cx="1621080" cy="156996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82800" y="2104920"/>
            <a:ext cx="1015920" cy="87012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876320" y="4268880"/>
            <a:ext cx="1016280" cy="86976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30560" y="3621240"/>
            <a:ext cx="639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262400" y="2162160"/>
            <a:ext cx="1015920" cy="87012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4281480" y="4223520"/>
            <a:ext cx="1015920" cy="87012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316040" y="3602160"/>
            <a:ext cx="639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393960" y="3629160"/>
            <a:ext cx="639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3040" y="4768920"/>
            <a:ext cx="1282680" cy="790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18360" y="4757760"/>
            <a:ext cx="1262160" cy="7081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59600" y="19810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1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66040" y="3268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3440" y="4538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1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76040" y="20480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47200" y="3251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77600" y="4641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20440" y="32702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2360" y="2752560"/>
            <a:ext cx="436320" cy="424080"/>
          </a:xfrm>
          <a:custGeom>
            <a:avLst/>
            <a:gdLst/>
            <a:ahLst/>
            <a:rect l="l" t="t" r="r" b="b"/>
            <a:pathLst>
              <a:path w="328" h="315">
                <a:moveTo>
                  <a:pt x="11" y="240"/>
                </a:moveTo>
                <a:cubicBezTo>
                  <a:pt x="5" y="170"/>
                  <a:pt x="0" y="100"/>
                  <a:pt x="28" y="61"/>
                </a:cubicBezTo>
                <a:cubicBezTo>
                  <a:pt x="56" y="22"/>
                  <a:pt x="133" y="0"/>
                  <a:pt x="177" y="4"/>
                </a:cubicBezTo>
                <a:cubicBezTo>
                  <a:pt x="221" y="8"/>
                  <a:pt x="275" y="40"/>
                  <a:pt x="295" y="83"/>
                </a:cubicBezTo>
                <a:cubicBezTo>
                  <a:pt x="315" y="126"/>
                  <a:pt x="328" y="223"/>
                  <a:pt x="295" y="262"/>
                </a:cubicBezTo>
                <a:cubicBezTo>
                  <a:pt x="262" y="301"/>
                  <a:pt x="131" y="307"/>
                  <a:pt x="98" y="315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91760" y="26607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1640" y="2368440"/>
            <a:ext cx="560520" cy="550800"/>
          </a:xfrm>
          <a:custGeom>
            <a:avLst/>
            <a:gdLst/>
            <a:ahLst/>
            <a:rect l="l" t="t" r="r" b="b"/>
            <a:pathLst>
              <a:path w="353" h="347">
                <a:moveTo>
                  <a:pt x="271" y="312"/>
                </a:moveTo>
                <a:cubicBezTo>
                  <a:pt x="312" y="247"/>
                  <a:pt x="353" y="182"/>
                  <a:pt x="333" y="132"/>
                </a:cubicBezTo>
                <a:cubicBezTo>
                  <a:pt x="313" y="82"/>
                  <a:pt x="204" y="0"/>
                  <a:pt x="149" y="10"/>
                </a:cubicBezTo>
                <a:cubicBezTo>
                  <a:pt x="94" y="20"/>
                  <a:pt x="0" y="137"/>
                  <a:pt x="4" y="193"/>
                </a:cubicBezTo>
                <a:cubicBezTo>
                  <a:pt x="8" y="249"/>
                  <a:pt x="91" y="298"/>
                  <a:pt x="175" y="347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8320" y="2060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90280" y="5249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70240" y="5413320"/>
            <a:ext cx="601920" cy="557280"/>
          </a:xfrm>
          <a:custGeom>
            <a:avLst/>
            <a:gdLst/>
            <a:ahLst/>
            <a:rect l="l" t="t" r="r" b="b"/>
            <a:pathLst>
              <a:path w="379" h="351">
                <a:moveTo>
                  <a:pt x="0" y="207"/>
                </a:moveTo>
                <a:cubicBezTo>
                  <a:pt x="49" y="262"/>
                  <a:pt x="98" y="317"/>
                  <a:pt x="145" y="334"/>
                </a:cubicBezTo>
                <a:cubicBezTo>
                  <a:pt x="192" y="351"/>
                  <a:pt x="248" y="344"/>
                  <a:pt x="285" y="312"/>
                </a:cubicBezTo>
                <a:cubicBezTo>
                  <a:pt x="322" y="280"/>
                  <a:pt x="379" y="191"/>
                  <a:pt x="368" y="141"/>
                </a:cubicBezTo>
                <a:cubicBezTo>
                  <a:pt x="357" y="91"/>
                  <a:pt x="270" y="20"/>
                  <a:pt x="219" y="10"/>
                </a:cubicBezTo>
                <a:cubicBezTo>
                  <a:pt x="168" y="0"/>
                  <a:pt x="114" y="40"/>
                  <a:pt x="61" y="8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27480" y="1398600"/>
            <a:ext cx="498600" cy="439560"/>
          </a:xfrm>
          <a:custGeom>
            <a:avLst/>
            <a:gdLst/>
            <a:ahLst/>
            <a:rect l="l" t="t" r="r" b="b"/>
            <a:pathLst>
              <a:path w="314" h="277">
                <a:moveTo>
                  <a:pt x="48" y="261"/>
                </a:moveTo>
                <a:cubicBezTo>
                  <a:pt x="123" y="269"/>
                  <a:pt x="199" y="277"/>
                  <a:pt x="241" y="248"/>
                </a:cubicBezTo>
                <a:cubicBezTo>
                  <a:pt x="283" y="219"/>
                  <a:pt x="314" y="126"/>
                  <a:pt x="302" y="86"/>
                </a:cubicBezTo>
                <a:cubicBezTo>
                  <a:pt x="290" y="46"/>
                  <a:pt x="213" y="14"/>
                  <a:pt x="171" y="7"/>
                </a:cubicBezTo>
                <a:cubicBezTo>
                  <a:pt x="129" y="0"/>
                  <a:pt x="76" y="18"/>
                  <a:pt x="48" y="42"/>
                </a:cubicBezTo>
                <a:cubicBezTo>
                  <a:pt x="20" y="66"/>
                  <a:pt x="10" y="109"/>
                  <a:pt x="0" y="15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04400" y="12096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03880" y="2808360"/>
            <a:ext cx="520920" cy="500040"/>
          </a:xfrm>
          <a:custGeom>
            <a:avLst/>
            <a:gdLst/>
            <a:ahLst/>
            <a:rect l="l" t="t" r="r" b="b"/>
            <a:pathLst>
              <a:path w="328" h="315">
                <a:moveTo>
                  <a:pt x="11" y="240"/>
                </a:moveTo>
                <a:cubicBezTo>
                  <a:pt x="5" y="170"/>
                  <a:pt x="0" y="100"/>
                  <a:pt x="28" y="61"/>
                </a:cubicBezTo>
                <a:cubicBezTo>
                  <a:pt x="56" y="22"/>
                  <a:pt x="133" y="0"/>
                  <a:pt x="177" y="4"/>
                </a:cubicBezTo>
                <a:cubicBezTo>
                  <a:pt x="221" y="8"/>
                  <a:pt x="275" y="40"/>
                  <a:pt x="295" y="83"/>
                </a:cubicBezTo>
                <a:cubicBezTo>
                  <a:pt x="315" y="126"/>
                  <a:pt x="328" y="223"/>
                  <a:pt x="295" y="262"/>
                </a:cubicBezTo>
                <a:cubicBezTo>
                  <a:pt x="262" y="301"/>
                  <a:pt x="131" y="307"/>
                  <a:pt x="98" y="315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81640" y="1760400"/>
            <a:ext cx="682560" cy="370080"/>
          </a:xfrm>
          <a:custGeom>
            <a:avLst/>
            <a:gdLst/>
            <a:ahLst/>
            <a:rect l="l" t="t" r="r" b="b"/>
            <a:pathLst>
              <a:path w="666" h="346">
                <a:moveTo>
                  <a:pt x="0" y="346"/>
                </a:moveTo>
                <a:cubicBezTo>
                  <a:pt x="66" y="271"/>
                  <a:pt x="133" y="196"/>
                  <a:pt x="202" y="144"/>
                </a:cubicBezTo>
                <a:cubicBezTo>
                  <a:pt x="271" y="92"/>
                  <a:pt x="340" y="59"/>
                  <a:pt x="417" y="35"/>
                </a:cubicBezTo>
                <a:cubicBezTo>
                  <a:pt x="494" y="11"/>
                  <a:pt x="580" y="5"/>
                  <a:pt x="66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62760" y="1305000"/>
            <a:ext cx="2547720" cy="8809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82000" y="4354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60000" y="2503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64680" y="4184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0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58200" y="5894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41160" y="4262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1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41480" y="4354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1,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757840" y="4600440"/>
            <a:ext cx="333360" cy="1092240"/>
          </a:xfrm>
          <a:custGeom>
            <a:avLst/>
            <a:gdLst/>
            <a:ahLst/>
            <a:rect l="l" t="t" r="r" b="b"/>
            <a:pathLst>
              <a:path w="666" h="346">
                <a:moveTo>
                  <a:pt x="0" y="346"/>
                </a:moveTo>
                <a:cubicBezTo>
                  <a:pt x="66" y="271"/>
                  <a:pt x="133" y="196"/>
                  <a:pt x="202" y="144"/>
                </a:cubicBezTo>
                <a:cubicBezTo>
                  <a:pt x="271" y="92"/>
                  <a:pt x="340" y="59"/>
                  <a:pt x="417" y="35"/>
                </a:cubicBezTo>
                <a:cubicBezTo>
                  <a:pt x="494" y="11"/>
                  <a:pt x="580" y="5"/>
                  <a:pt x="66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48360" y="5695920"/>
            <a:ext cx="3703680" cy="868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Sta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(o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1,reg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, o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2,reg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, o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3,reg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, c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4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77880" y="24969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04840"/>
            <a:ext cx="71881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82600" y="4079880"/>
            <a:ext cx="4514400" cy="2336760"/>
            <a:chOff x="282600" y="4079880"/>
            <a:chExt cx="4514400" cy="2336760"/>
          </a:xfrm>
        </p:grpSpPr>
        <p:sp>
          <p:nvSpPr>
            <p:cNvPr id="706" name=""/>
            <p:cNvSpPr/>
            <p:nvPr/>
          </p:nvSpPr>
          <p:spPr>
            <a:xfrm>
              <a:off x="3950640" y="6006600"/>
              <a:ext cx="846360" cy="409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1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50640" y="4521600"/>
              <a:ext cx="846360" cy="14846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50640" y="4085280"/>
              <a:ext cx="846360" cy="436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Tahoma"/>
                </a:rPr>
                <a:t>vli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04280" y="6006600"/>
              <a:ext cx="846000" cy="4096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1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04280" y="4521600"/>
              <a:ext cx="846000" cy="148464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04280" y="4085280"/>
              <a:ext cx="846000" cy="4363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o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57560" y="6006600"/>
              <a:ext cx="846360" cy="4096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3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57560" y="4521600"/>
              <a:ext cx="846360" cy="1484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1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57560" y="4085280"/>
              <a:ext cx="846360" cy="4363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s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2600" y="6006600"/>
              <a:ext cx="1974960" cy="4096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tal (# cycl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2600" y="4521600"/>
              <a:ext cx="1974960" cy="1484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AddRound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ByteS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ShiftR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MixColu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2600" y="4085280"/>
              <a:ext cx="1974960" cy="436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unction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2600" y="4079880"/>
              <a:ext cx="4514400" cy="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2600" y="6416640"/>
              <a:ext cx="45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2600" y="4085280"/>
              <a:ext cx="0" cy="233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97000" y="4085280"/>
              <a:ext cx="0" cy="233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2600" y="4521600"/>
              <a:ext cx="45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2600" y="6006600"/>
              <a:ext cx="45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7560" y="40798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04280" y="40798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50640" y="4085280"/>
              <a:ext cx="0" cy="23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941720" y="4524480"/>
            <a:ext cx="4005360" cy="14414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2.9 time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faster than M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1.5 time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faster than VLI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1840" y="1171440"/>
            <a:ext cx="835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ijndael encryption functions 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s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    - Implementation by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eneral process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(MI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our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 - Result for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field modifiable architectur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vli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  - Result for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usual VLIW architectur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0000" y="2901960"/>
            <a:ext cx="8316720" cy="8269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cost not consid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structions assumed to take 1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26880" y="243000"/>
            <a:ext cx="7421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and 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392040" y="1663560"/>
            <a:ext cx="8256600" cy="2396520"/>
          </a:xfrm>
          <a:prstGeom prst="rect">
            <a:avLst/>
          </a:prstGeom>
          <a:solidFill>
            <a:srgbClr val="66ccff"/>
          </a:solidFill>
          <a:ln w="9360">
            <a:solidFill>
              <a:srgbClr val="32d4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ield modifiabl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Specialized instructio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ahoma"/>
              </a:rPr>
              <a:t>FSM-based cod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s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encryption program is mapp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uccessfully to field modifiable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4640" y="4653000"/>
            <a:ext cx="8244000" cy="16290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ed instruction generation consid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constraints, pow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M-based Code generation for CD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7840" y="1620720"/>
          <a:ext cx="784872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620720"/>
                    <a:ext cx="784872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219320" y="252360"/>
            <a:ext cx="766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ical Architecture and it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93840"/>
            <a:ext cx="80769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ritical loops in processor software are implemented as complete hardware (i.e. ASIC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81360" y="2536920"/>
            <a:ext cx="433728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high perform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tion takes too much time (not easy to desi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g fix is im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usable tha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39680" y="2879640"/>
          <a:ext cx="63244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879640"/>
                    <a:ext cx="63244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50920" y="152280"/>
            <a:ext cx="779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eld Modifiabl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1371600"/>
            <a:ext cx="8793000" cy="2226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has specialized instructions for a given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ed instructions are generated automa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ontrolled by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137040"/>
            <a:ext cx="26719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more flexible and debugg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more easi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more reu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63600" y="246240"/>
            <a:ext cx="74534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Method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65880" y="1193760"/>
            <a:ext cx="3546360" cy="192276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presen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focu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Specialized instruction set generation” and “Code generatio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5400" y="1098720"/>
          <a:ext cx="7238880" cy="56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98720"/>
                    <a:ext cx="7238880" cy="56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83040" y="4948200"/>
            <a:ext cx="3587760" cy="16747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67520" y="1157400"/>
            <a:ext cx="1860480" cy="28645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nction add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 0.5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yc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wer 0.1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nction 3add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 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 0.7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yc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wer 0.15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0880" y="2732040"/>
            <a:ext cx="3184200" cy="4572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tc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72080" y="2371680"/>
            <a:ext cx="57456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25960" y="2475000"/>
            <a:ext cx="346320" cy="255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7520" y="3203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79520" y="4622760"/>
            <a:ext cx="501480" cy="53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560" y="4805280"/>
            <a:ext cx="2634480" cy="17989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plus(mult(reg,reg),r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-&gt;reg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resource: ALU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{ mac  reg,reg,reg,reg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plus(reg, reg)-&gt;reg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resource: ALU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{ add  reg,reg,reg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92480" y="1778040"/>
            <a:ext cx="1119240" cy="58716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2440" y="1108080"/>
            <a:ext cx="1870200" cy="139212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5089680"/>
            <a:ext cx="1352520" cy="91584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0720" y="5181480"/>
            <a:ext cx="1474560" cy="76212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l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7960" y="1697040"/>
            <a:ext cx="44928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1960" y="1366920"/>
            <a:ext cx="1941120" cy="1688760"/>
            <a:chOff x="831960" y="1366920"/>
            <a:chExt cx="1941120" cy="1688760"/>
          </a:xfrm>
        </p:grpSpPr>
        <p:sp>
          <p:nvSpPr>
            <p:cNvPr id="129" name=""/>
            <p:cNvSpPr/>
            <p:nvPr/>
          </p:nvSpPr>
          <p:spPr>
            <a:xfrm>
              <a:off x="831960" y="1366920"/>
              <a:ext cx="1941120" cy="16887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924120" y="1514520"/>
              <a:ext cx="1756440" cy="1363320"/>
              <a:chOff x="924120" y="1514520"/>
              <a:chExt cx="1756440" cy="13633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343960" y="2298600"/>
                <a:ext cx="326520" cy="320040"/>
                <a:chOff x="2343960" y="2298600"/>
                <a:chExt cx="326520" cy="320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343960" y="2298600"/>
                  <a:ext cx="3265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398320" y="2458440"/>
                  <a:ext cx="217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507040" y="2351880"/>
                  <a:ext cx="0" cy="21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893240" y="1782360"/>
                <a:ext cx="324720" cy="320040"/>
                <a:chOff x="1893240" y="1782360"/>
                <a:chExt cx="324720" cy="3200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893240" y="1782360"/>
                  <a:ext cx="3247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47240" y="1942200"/>
                  <a:ext cx="21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055600" y="1835280"/>
                  <a:ext cx="0" cy="21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192040" y="2078640"/>
                <a:ext cx="21456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526480" y="1526760"/>
                <a:ext cx="154080" cy="76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47440" y="1538280"/>
                <a:ext cx="243360" cy="27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140920" y="1514520"/>
                <a:ext cx="25992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10280" y="2622600"/>
                <a:ext cx="0" cy="25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1532160" y="2289600"/>
                <a:ext cx="324720" cy="320040"/>
                <a:chOff x="1532160" y="2289600"/>
                <a:chExt cx="324720" cy="320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532160" y="2289600"/>
                  <a:ext cx="3247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585800" y="2449440"/>
                  <a:ext cx="21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94520" y="2342880"/>
                  <a:ext cx="0" cy="21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368000" y="2076840"/>
                <a:ext cx="22284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803600" y="2085840"/>
                <a:ext cx="19260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94520" y="2622600"/>
                <a:ext cx="0" cy="25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1122840" y="1789920"/>
                <a:ext cx="326520" cy="320040"/>
                <a:chOff x="1122840" y="1789920"/>
                <a:chExt cx="326520" cy="320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2840" y="1789920"/>
                  <a:ext cx="3265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08880" y="1873440"/>
                  <a:ext cx="154080" cy="15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1209960" y="1872000"/>
                  <a:ext cx="153720" cy="15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924120" y="1536480"/>
                <a:ext cx="257400" cy="30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387800" y="1534320"/>
                <a:ext cx="249480" cy="29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408400" y="3511440"/>
            <a:ext cx="4559040" cy="4446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ahoma"/>
              </a:rPr>
              <a:t>Binate Covering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32200" y="397044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0" y="4230720"/>
            <a:ext cx="5554440" cy="38088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ahoma"/>
              </a:rPr>
              <a:t>Solving Binate Covering by MTB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70280" y="5473800"/>
            <a:ext cx="449280" cy="20160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84920" y="4618080"/>
            <a:ext cx="631800" cy="46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73440" y="2057400"/>
            <a:ext cx="417600" cy="123840"/>
          </a:xfrm>
          <a:custGeom>
            <a:avLst/>
            <a:gdLst/>
            <a:ahLst/>
            <a:rect l="l" t="t" r="r" b="b"/>
            <a:pathLst>
              <a:path w="368" h="87">
                <a:moveTo>
                  <a:pt x="0" y="87"/>
                </a:moveTo>
                <a:cubicBezTo>
                  <a:pt x="53" y="56"/>
                  <a:pt x="106" y="26"/>
                  <a:pt x="167" y="13"/>
                </a:cubicBezTo>
                <a:cubicBezTo>
                  <a:pt x="228" y="0"/>
                  <a:pt x="298" y="4"/>
                  <a:pt x="368" y="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4280" y="21744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ion Set Generation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02280" y="4784760"/>
            <a:ext cx="2059200" cy="17974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66080" y="4976640"/>
            <a:ext cx="564840" cy="674640"/>
            <a:chOff x="7066080" y="4976640"/>
            <a:chExt cx="564840" cy="674640"/>
          </a:xfrm>
        </p:grpSpPr>
        <p:grpSp>
          <p:nvGrpSpPr>
            <p:cNvPr id="166" name=""/>
            <p:cNvGrpSpPr/>
            <p:nvPr/>
          </p:nvGrpSpPr>
          <p:grpSpPr>
            <a:xfrm>
              <a:off x="7210440" y="5156640"/>
              <a:ext cx="294120" cy="271080"/>
              <a:chOff x="7210440" y="5156640"/>
              <a:chExt cx="294120" cy="271080"/>
            </a:xfrm>
          </p:grpSpPr>
          <p:sp>
            <p:nvSpPr>
              <p:cNvPr id="167" name=""/>
              <p:cNvSpPr/>
              <p:nvPr/>
            </p:nvSpPr>
            <p:spPr>
              <a:xfrm>
                <a:off x="7210440" y="5156640"/>
                <a:ext cx="294120" cy="271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59040" y="5292000"/>
                <a:ext cx="196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57320" y="5201640"/>
                <a:ext cx="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7066080" y="4976640"/>
              <a:ext cx="199080" cy="2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457400" y="4984200"/>
              <a:ext cx="17352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58760" y="54367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826400" y="4979880"/>
            <a:ext cx="966600" cy="1136520"/>
            <a:chOff x="7826400" y="4979880"/>
            <a:chExt cx="966600" cy="1136520"/>
          </a:xfrm>
        </p:grpSpPr>
        <p:grpSp>
          <p:nvGrpSpPr>
            <p:cNvPr id="174" name=""/>
            <p:cNvGrpSpPr/>
            <p:nvPr/>
          </p:nvGrpSpPr>
          <p:grpSpPr>
            <a:xfrm>
              <a:off x="8372160" y="5616000"/>
              <a:ext cx="293400" cy="271080"/>
              <a:chOff x="8372160" y="5616000"/>
              <a:chExt cx="293400" cy="271080"/>
            </a:xfrm>
          </p:grpSpPr>
          <p:sp>
            <p:nvSpPr>
              <p:cNvPr id="175" name=""/>
              <p:cNvSpPr/>
              <p:nvPr/>
            </p:nvSpPr>
            <p:spPr>
              <a:xfrm>
                <a:off x="8372160" y="5616000"/>
                <a:ext cx="293400" cy="271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20760" y="5751360"/>
                <a:ext cx="19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518680" y="5661000"/>
                <a:ext cx="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004600" y="5195880"/>
              <a:ext cx="294480" cy="269280"/>
              <a:chOff x="8004600" y="5195880"/>
              <a:chExt cx="294480" cy="269280"/>
            </a:xfrm>
          </p:grpSpPr>
          <p:sp>
            <p:nvSpPr>
              <p:cNvPr id="179" name=""/>
              <p:cNvSpPr/>
              <p:nvPr/>
            </p:nvSpPr>
            <p:spPr>
              <a:xfrm>
                <a:off x="8004600" y="5195880"/>
                <a:ext cx="29448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82000" y="5261760"/>
                <a:ext cx="13932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8083440" y="5260320"/>
                <a:ext cx="138240" cy="13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8227800" y="5436000"/>
              <a:ext cx="200160" cy="2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619480" y="5443920"/>
              <a:ext cx="17352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26400" y="4980960"/>
              <a:ext cx="231480" cy="25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243280" y="4979880"/>
              <a:ext cx="225360" cy="25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32360" y="5902920"/>
              <a:ext cx="0" cy="21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05600" y="576576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63920" y="611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69120" y="5570640"/>
            <a:ext cx="51264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8360" y="6140520"/>
            <a:ext cx="33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ptimum Instruction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18560" y="304020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4040" y="1441440"/>
            <a:ext cx="16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94320" y="2597040"/>
            <a:ext cx="3547800" cy="3080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ru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ike 2parallel-AD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IMD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7760" y="2570040"/>
            <a:ext cx="3227400" cy="3080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ru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ike MAC in D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908800">
            <a:off x="1763280" y="3166920"/>
            <a:ext cx="1674720" cy="68724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6160" y="2948040"/>
            <a:ext cx="1835280" cy="68724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85760" y="196920"/>
            <a:ext cx="7793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25920" y="2795760"/>
            <a:ext cx="1852560" cy="1045800"/>
            <a:chOff x="5425920" y="2795760"/>
            <a:chExt cx="1852560" cy="1045800"/>
          </a:xfrm>
        </p:grpSpPr>
        <p:grpSp>
          <p:nvGrpSpPr>
            <p:cNvPr id="199" name=""/>
            <p:cNvGrpSpPr/>
            <p:nvPr/>
          </p:nvGrpSpPr>
          <p:grpSpPr>
            <a:xfrm>
              <a:off x="5631120" y="3087360"/>
              <a:ext cx="420840" cy="411120"/>
              <a:chOff x="5631120" y="3087360"/>
              <a:chExt cx="420840" cy="411120"/>
            </a:xfrm>
          </p:grpSpPr>
          <p:sp>
            <p:nvSpPr>
              <p:cNvPr id="200" name=""/>
              <p:cNvSpPr/>
              <p:nvPr/>
            </p:nvSpPr>
            <p:spPr>
              <a:xfrm>
                <a:off x="5631120" y="3087360"/>
                <a:ext cx="420840" cy="411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00960" y="3292920"/>
                <a:ext cx="28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41360" y="3155760"/>
                <a:ext cx="0" cy="27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679080" y="3099240"/>
              <a:ext cx="420480" cy="412920"/>
              <a:chOff x="6679080" y="3099240"/>
              <a:chExt cx="420480" cy="412920"/>
            </a:xfrm>
          </p:grpSpPr>
          <p:sp>
            <p:nvSpPr>
              <p:cNvPr id="204" name=""/>
              <p:cNvSpPr/>
              <p:nvPr/>
            </p:nvSpPr>
            <p:spPr>
              <a:xfrm>
                <a:off x="6679080" y="3099240"/>
                <a:ext cx="420480" cy="412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48920" y="3305520"/>
                <a:ext cx="28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89320" y="3168000"/>
                <a:ext cx="0" cy="27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425920" y="2813400"/>
              <a:ext cx="28548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984280" y="2825280"/>
              <a:ext cx="24804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4960" y="3515400"/>
              <a:ext cx="0" cy="32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84320" y="2816640"/>
              <a:ext cx="27612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997680" y="2795760"/>
              <a:ext cx="28080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5440" y="3514320"/>
              <a:ext cx="0" cy="32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892160" y="2701800"/>
            <a:ext cx="1369800" cy="1655640"/>
            <a:chOff x="1892160" y="2701800"/>
            <a:chExt cx="1369800" cy="1655640"/>
          </a:xfrm>
        </p:grpSpPr>
        <p:grpSp>
          <p:nvGrpSpPr>
            <p:cNvPr id="214" name=""/>
            <p:cNvGrpSpPr/>
            <p:nvPr/>
          </p:nvGrpSpPr>
          <p:grpSpPr>
            <a:xfrm>
              <a:off x="2665440" y="3628440"/>
              <a:ext cx="415800" cy="394200"/>
              <a:chOff x="2665440" y="3628440"/>
              <a:chExt cx="415800" cy="39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2665440" y="3628440"/>
                <a:ext cx="415800" cy="394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34200" y="3825360"/>
                <a:ext cx="27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3160" y="3693960"/>
                <a:ext cx="0" cy="26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44880" y="3016800"/>
              <a:ext cx="417240" cy="392760"/>
              <a:chOff x="2144880" y="3016800"/>
              <a:chExt cx="417240" cy="39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144880" y="3016800"/>
                <a:ext cx="417240" cy="392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54680" y="3115800"/>
                <a:ext cx="197280" cy="1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256840" y="3113640"/>
                <a:ext cx="195840" cy="19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2460960" y="3366360"/>
              <a:ext cx="283680" cy="32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17160" y="3377880"/>
              <a:ext cx="244800" cy="3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2160" y="2703240"/>
              <a:ext cx="328320" cy="37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483280" y="2701800"/>
              <a:ext cx="320760" cy="36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2960" y="4046040"/>
              <a:ext cx="0" cy="31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46000" y="1282680"/>
            <a:ext cx="74548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ing kinds of specialized instructions are generated automa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160" y="5613480"/>
            <a:ext cx="74548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presentation, only serial instructions are consi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1400" y="249120"/>
            <a:ext cx="695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ch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75040" y="2649600"/>
            <a:ext cx="13780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4821120"/>
            <a:ext cx="8346960" cy="2226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tch is a sub-graph of the given D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atch consists of 1 - 4 DFG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atch is a candidate of a special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ptimal set of instructions is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35160" y="2692440"/>
            <a:ext cx="439920" cy="431640"/>
            <a:chOff x="3035160" y="2692440"/>
            <a:chExt cx="439920" cy="431640"/>
          </a:xfrm>
        </p:grpSpPr>
        <p:sp>
          <p:nvSpPr>
            <p:cNvPr id="233" name=""/>
            <p:cNvSpPr/>
            <p:nvPr/>
          </p:nvSpPr>
          <p:spPr>
            <a:xfrm>
              <a:off x="3035160" y="269244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08240" y="290808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55120" y="276444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427120" y="1996920"/>
            <a:ext cx="439920" cy="432000"/>
            <a:chOff x="2427120" y="1996920"/>
            <a:chExt cx="439920" cy="432000"/>
          </a:xfrm>
        </p:grpSpPr>
        <p:sp>
          <p:nvSpPr>
            <p:cNvPr id="237" name=""/>
            <p:cNvSpPr/>
            <p:nvPr/>
          </p:nvSpPr>
          <p:spPr>
            <a:xfrm>
              <a:off x="2427120" y="199692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0200" y="221292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7080" y="206856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8880" y="2397240"/>
            <a:ext cx="29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46120" y="1654200"/>
            <a:ext cx="24300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32000" y="167004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762280" y="1636560"/>
            <a:ext cx="350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60880" y="31291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40040" y="2681280"/>
            <a:ext cx="439560" cy="431640"/>
            <a:chOff x="1940040" y="2681280"/>
            <a:chExt cx="439560" cy="431640"/>
          </a:xfrm>
        </p:grpSpPr>
        <p:sp>
          <p:nvSpPr>
            <p:cNvPr id="246" name=""/>
            <p:cNvSpPr/>
            <p:nvPr/>
          </p:nvSpPr>
          <p:spPr>
            <a:xfrm>
              <a:off x="1940040" y="26812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12760" y="2896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59640" y="275328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720800" y="2395440"/>
            <a:ext cx="30024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07960" y="240660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58920" y="31305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89240" y="2008080"/>
            <a:ext cx="439560" cy="432000"/>
            <a:chOff x="1389240" y="2008080"/>
            <a:chExt cx="439560" cy="432000"/>
          </a:xfrm>
        </p:grpSpPr>
        <p:sp>
          <p:nvSpPr>
            <p:cNvPr id="253" name=""/>
            <p:cNvSpPr/>
            <p:nvPr/>
          </p:nvSpPr>
          <p:spPr>
            <a:xfrm>
              <a:off x="1389240" y="200808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04800" y="212184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507320" y="211932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120680" y="1666800"/>
            <a:ext cx="34776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46000" y="1665360"/>
            <a:ext cx="33804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6720" y="198900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3560" y="198612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77880" y="297648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14760" y="298944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rot="2250000">
            <a:off x="6498360" y="1775520"/>
            <a:ext cx="706680" cy="1527480"/>
          </a:xfrm>
          <a:prstGeom prst="ellipse">
            <a:avLst/>
          </a:prstGeom>
          <a:solidFill>
            <a:srgbClr val="54fa4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9350000">
            <a:off x="7015320" y="1746000"/>
            <a:ext cx="706320" cy="1527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350000">
            <a:off x="5951520" y="1767960"/>
            <a:ext cx="706320" cy="152748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454880" y="2657520"/>
            <a:ext cx="439920" cy="431640"/>
            <a:chOff x="7454880" y="2657520"/>
            <a:chExt cx="439920" cy="431640"/>
          </a:xfrm>
        </p:grpSpPr>
        <p:sp>
          <p:nvSpPr>
            <p:cNvPr id="266" name=""/>
            <p:cNvSpPr/>
            <p:nvPr/>
          </p:nvSpPr>
          <p:spPr>
            <a:xfrm>
              <a:off x="7454880" y="265752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27960" y="287316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4840" y="27295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846840" y="1962000"/>
            <a:ext cx="439920" cy="432000"/>
            <a:chOff x="6846840" y="1962000"/>
            <a:chExt cx="439920" cy="432000"/>
          </a:xfrm>
        </p:grpSpPr>
        <p:sp>
          <p:nvSpPr>
            <p:cNvPr id="270" name=""/>
            <p:cNvSpPr/>
            <p:nvPr/>
          </p:nvSpPr>
          <p:spPr>
            <a:xfrm>
              <a:off x="6846840" y="196200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19920" y="217800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66800" y="20336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248600" y="236232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666200" y="1619280"/>
            <a:ext cx="24264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51720" y="163512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182000" y="1601640"/>
            <a:ext cx="350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80240" y="309420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359400" y="2646360"/>
            <a:ext cx="439920" cy="431640"/>
            <a:chOff x="6359400" y="2646360"/>
            <a:chExt cx="439920" cy="431640"/>
          </a:xfrm>
        </p:grpSpPr>
        <p:sp>
          <p:nvSpPr>
            <p:cNvPr id="279" name=""/>
            <p:cNvSpPr/>
            <p:nvPr/>
          </p:nvSpPr>
          <p:spPr>
            <a:xfrm>
              <a:off x="6359400" y="264636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32480" y="286200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79360" y="271836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40520" y="2360520"/>
            <a:ext cx="29988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727680" y="2371680"/>
            <a:ext cx="26064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78640" y="309564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808600" y="1973160"/>
            <a:ext cx="439920" cy="432000"/>
            <a:chOff x="5808600" y="1973160"/>
            <a:chExt cx="439920" cy="432000"/>
          </a:xfrm>
        </p:grpSpPr>
        <p:sp>
          <p:nvSpPr>
            <p:cNvPr id="286" name=""/>
            <p:cNvSpPr/>
            <p:nvPr/>
          </p:nvSpPr>
          <p:spPr>
            <a:xfrm>
              <a:off x="5808600" y="197316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24160" y="2086560"/>
              <a:ext cx="20808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926320" y="2084400"/>
              <a:ext cx="20664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540400" y="1631880"/>
            <a:ext cx="34776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165720" y="1630440"/>
            <a:ext cx="33840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56080" y="195408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30840" y="1882800"/>
            <a:ext cx="601560" cy="5968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1898640"/>
            <a:ext cx="600120" cy="59832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80200" y="2565360"/>
            <a:ext cx="600120" cy="59688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62720" y="2587680"/>
            <a:ext cx="600120" cy="5968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53280" y="195120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97600" y="294156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34120" y="295416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83160" y="2637000"/>
            <a:ext cx="18889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l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65120" y="3825720"/>
            <a:ext cx="1889280" cy="47160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n 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40280" y="3720960"/>
            <a:ext cx="2152800" cy="790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76480" y="206280"/>
            <a:ext cx="773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Variables Used in Binate Cov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520" y="5470560"/>
            <a:ext cx="86994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eanings of the variables is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ja-JP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 = 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when match 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selected as a special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ja-JP" sz="1800" spc="-1" strike="noStrike">
                <a:solidFill>
                  <a:srgbClr val="3333cc"/>
                </a:solidFill>
                <a:latin typeface="Tahoma"/>
              </a:rPr>
              <a:t>j</a:t>
            </a: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 = 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when node j is covered as primary output of a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250000">
            <a:off x="1473120" y="1594800"/>
            <a:ext cx="706680" cy="1527120"/>
          </a:xfrm>
          <a:prstGeom prst="ellipse">
            <a:avLst/>
          </a:prstGeom>
          <a:solidFill>
            <a:srgbClr val="54fa4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9350000">
            <a:off x="1989000" y="1564920"/>
            <a:ext cx="706680" cy="1527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9350000">
            <a:off x="925560" y="1587240"/>
            <a:ext cx="706320" cy="15271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428920" y="2476440"/>
            <a:ext cx="439560" cy="432000"/>
            <a:chOff x="2428920" y="2476440"/>
            <a:chExt cx="439560" cy="432000"/>
          </a:xfrm>
        </p:grpSpPr>
        <p:sp>
          <p:nvSpPr>
            <p:cNvPr id="308" name=""/>
            <p:cNvSpPr/>
            <p:nvPr/>
          </p:nvSpPr>
          <p:spPr>
            <a:xfrm>
              <a:off x="2428920" y="247644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02000" y="269244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48520" y="25484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820880" y="1781280"/>
            <a:ext cx="439560" cy="431640"/>
            <a:chOff x="1820880" y="1781280"/>
            <a:chExt cx="439560" cy="431640"/>
          </a:xfrm>
        </p:grpSpPr>
        <p:sp>
          <p:nvSpPr>
            <p:cNvPr id="312" name=""/>
            <p:cNvSpPr/>
            <p:nvPr/>
          </p:nvSpPr>
          <p:spPr>
            <a:xfrm>
              <a:off x="1820880" y="17812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3960" y="1996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0480" y="18529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22640" y="218124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639520" y="1438200"/>
            <a:ext cx="24300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25760" y="1454040"/>
            <a:ext cx="32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155320" y="1420920"/>
            <a:ext cx="35100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4280" y="29131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33440" y="2465280"/>
            <a:ext cx="439920" cy="432000"/>
            <a:chOff x="1333440" y="2465280"/>
            <a:chExt cx="439920" cy="432000"/>
          </a:xfrm>
        </p:grpSpPr>
        <p:sp>
          <p:nvSpPr>
            <p:cNvPr id="321" name=""/>
            <p:cNvSpPr/>
            <p:nvPr/>
          </p:nvSpPr>
          <p:spPr>
            <a:xfrm>
              <a:off x="1333440" y="246528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06520" y="268128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3400" y="253728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114560" y="217980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01360" y="219060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52680" y="29145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82640" y="1792440"/>
            <a:ext cx="439560" cy="431640"/>
            <a:chOff x="782640" y="1792440"/>
            <a:chExt cx="439560" cy="431640"/>
          </a:xfrm>
        </p:grpSpPr>
        <p:sp>
          <p:nvSpPr>
            <p:cNvPr id="328" name=""/>
            <p:cNvSpPr/>
            <p:nvPr/>
          </p:nvSpPr>
          <p:spPr>
            <a:xfrm>
              <a:off x="782640" y="179244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8200" y="190584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900720" y="190332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14440" y="1450800"/>
            <a:ext cx="3474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139400" y="1449360"/>
            <a:ext cx="33804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5840" y="177336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4880" y="1701720"/>
            <a:ext cx="601560" cy="5968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36640" y="1717560"/>
            <a:ext cx="600120" cy="59868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54240" y="2384280"/>
            <a:ext cx="600120" cy="59688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36760" y="2406600"/>
            <a:ext cx="600120" cy="5968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03640" y="159228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95320" y="27608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38320" y="27734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02400" y="1504800"/>
            <a:ext cx="439920" cy="432000"/>
            <a:chOff x="7502400" y="1504800"/>
            <a:chExt cx="439920" cy="432000"/>
          </a:xfrm>
        </p:grpSpPr>
        <p:sp>
          <p:nvSpPr>
            <p:cNvPr id="342" name=""/>
            <p:cNvSpPr/>
            <p:nvPr/>
          </p:nvSpPr>
          <p:spPr>
            <a:xfrm>
              <a:off x="7502400" y="150480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75480" y="172080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22360" y="15764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853400" y="190512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07280" y="117792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837560" y="1144440"/>
            <a:ext cx="350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64320" y="189396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83240" y="191448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32400" y="1506600"/>
            <a:ext cx="439920" cy="431640"/>
            <a:chOff x="6332400" y="1506600"/>
            <a:chExt cx="439920" cy="431640"/>
          </a:xfrm>
        </p:grpSpPr>
        <p:sp>
          <p:nvSpPr>
            <p:cNvPr id="351" name=""/>
            <p:cNvSpPr/>
            <p:nvPr/>
          </p:nvSpPr>
          <p:spPr>
            <a:xfrm>
              <a:off x="6332400" y="150660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7960" y="1619640"/>
              <a:ext cx="20808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450120" y="1617480"/>
              <a:ext cx="20664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064200" y="1165320"/>
            <a:ext cx="34776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689520" y="1163520"/>
            <a:ext cx="338040" cy="40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35600" y="1487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54640" y="1415880"/>
            <a:ext cx="601920" cy="5972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18520" y="1441440"/>
            <a:ext cx="600120" cy="59832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08840" y="14940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64200" y="1490760"/>
            <a:ext cx="439560" cy="431640"/>
            <a:chOff x="5164200" y="1490760"/>
            <a:chExt cx="439560" cy="431640"/>
          </a:xfrm>
        </p:grpSpPr>
        <p:sp>
          <p:nvSpPr>
            <p:cNvPr id="361" name=""/>
            <p:cNvSpPr/>
            <p:nvPr/>
          </p:nvSpPr>
          <p:spPr>
            <a:xfrm>
              <a:off x="5164200" y="149076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37280" y="170640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83800" y="156276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964040" y="1195560"/>
            <a:ext cx="29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70200" y="1177920"/>
            <a:ext cx="9036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89560" y="19270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986280" y="1433520"/>
            <a:ext cx="439560" cy="431640"/>
            <a:chOff x="3986280" y="1433520"/>
            <a:chExt cx="439560" cy="431640"/>
          </a:xfrm>
        </p:grpSpPr>
        <p:sp>
          <p:nvSpPr>
            <p:cNvPr id="368" name=""/>
            <p:cNvSpPr/>
            <p:nvPr/>
          </p:nvSpPr>
          <p:spPr>
            <a:xfrm>
              <a:off x="3986280" y="143352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164916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5880" y="15055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767040" y="1147680"/>
            <a:ext cx="30024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354200" y="115884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05160" y="188280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06720" y="1352520"/>
            <a:ext cx="600120" cy="59688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72040" y="1420920"/>
            <a:ext cx="600120" cy="5968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24120" y="1698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43440" y="17874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9350000">
            <a:off x="7634160" y="2491920"/>
            <a:ext cx="706680" cy="1527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080200" y="3403440"/>
            <a:ext cx="439920" cy="432000"/>
            <a:chOff x="8080200" y="3403440"/>
            <a:chExt cx="439920" cy="432000"/>
          </a:xfrm>
        </p:grpSpPr>
        <p:sp>
          <p:nvSpPr>
            <p:cNvPr id="380" name=""/>
            <p:cNvSpPr/>
            <p:nvPr/>
          </p:nvSpPr>
          <p:spPr>
            <a:xfrm>
              <a:off x="8080200" y="340344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53280" y="361944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00160" y="34754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472520" y="2708280"/>
            <a:ext cx="439560" cy="431640"/>
            <a:chOff x="7472520" y="2708280"/>
            <a:chExt cx="439560" cy="431640"/>
          </a:xfrm>
        </p:grpSpPr>
        <p:sp>
          <p:nvSpPr>
            <p:cNvPr id="384" name=""/>
            <p:cNvSpPr/>
            <p:nvPr/>
          </p:nvSpPr>
          <p:spPr>
            <a:xfrm>
              <a:off x="7472520" y="27082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5600" y="2923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2120" y="27799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920" y="3108240"/>
            <a:ext cx="29232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291160" y="2365200"/>
            <a:ext cx="243000" cy="101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77040" y="2381400"/>
            <a:ext cx="328680" cy="37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806960" y="2347920"/>
            <a:ext cx="35100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38401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53000" y="3117960"/>
            <a:ext cx="260280" cy="33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78600" y="25891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59800" y="37004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9350000">
            <a:off x="4024440" y="2504880"/>
            <a:ext cx="706320" cy="15271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32320" y="3382920"/>
            <a:ext cx="439560" cy="432000"/>
            <a:chOff x="4432320" y="3382920"/>
            <a:chExt cx="439560" cy="432000"/>
          </a:xfrm>
        </p:grpSpPr>
        <p:sp>
          <p:nvSpPr>
            <p:cNvPr id="397" name=""/>
            <p:cNvSpPr/>
            <p:nvPr/>
          </p:nvSpPr>
          <p:spPr>
            <a:xfrm>
              <a:off x="4432320" y="338292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05040" y="3598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51920" y="345492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213080" y="3097080"/>
            <a:ext cx="30024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00240" y="310824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51200" y="383220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881520" y="2709720"/>
            <a:ext cx="439560" cy="432000"/>
            <a:chOff x="3881520" y="2709720"/>
            <a:chExt cx="439560" cy="432000"/>
          </a:xfrm>
        </p:grpSpPr>
        <p:sp>
          <p:nvSpPr>
            <p:cNvPr id="404" name=""/>
            <p:cNvSpPr/>
            <p:nvPr/>
          </p:nvSpPr>
          <p:spPr>
            <a:xfrm>
              <a:off x="3881520" y="270972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7080" y="282348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999600" y="282096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613320" y="2368440"/>
            <a:ext cx="3474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38280" y="2367000"/>
            <a:ext cx="33804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71760" y="26906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89240" y="36846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rot="2250000">
            <a:off x="5800320" y="2536920"/>
            <a:ext cx="706320" cy="1526760"/>
          </a:xfrm>
          <a:prstGeom prst="ellipse">
            <a:avLst/>
          </a:prstGeom>
          <a:solidFill>
            <a:srgbClr val="54fa4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148440" y="2722680"/>
            <a:ext cx="439560" cy="431640"/>
            <a:chOff x="6148440" y="2722680"/>
            <a:chExt cx="439560" cy="431640"/>
          </a:xfrm>
        </p:grpSpPr>
        <p:sp>
          <p:nvSpPr>
            <p:cNvPr id="413" name=""/>
            <p:cNvSpPr/>
            <p:nvPr/>
          </p:nvSpPr>
          <p:spPr>
            <a:xfrm>
              <a:off x="6148440" y="27226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21520" y="29383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68040" y="279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550200" y="312264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52960" y="239544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482880" y="2362320"/>
            <a:ext cx="35100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661000" y="3406680"/>
            <a:ext cx="439920" cy="432000"/>
            <a:chOff x="5661000" y="3406680"/>
            <a:chExt cx="439920" cy="432000"/>
          </a:xfrm>
        </p:grpSpPr>
        <p:sp>
          <p:nvSpPr>
            <p:cNvPr id="420" name=""/>
            <p:cNvSpPr/>
            <p:nvPr/>
          </p:nvSpPr>
          <p:spPr>
            <a:xfrm>
              <a:off x="5661000" y="340668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34080" y="362268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80960" y="347868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442120" y="312120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028920" y="313200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0240" y="38559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4880" y="2711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37018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45040" y="17622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30960" y="18367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34120" y="188280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31120" y="19242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98920" y="327492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22960" y="349884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26280" y="337176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7280" y="3368520"/>
            <a:ext cx="2527200" cy="8938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92520" y="4295880"/>
            <a:ext cx="4668840" cy="903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tch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76480" y="206280"/>
            <a:ext cx="752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3240" y="1365120"/>
            <a:ext cx="78440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Total cycle cos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: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ep,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ja-JP" sz="1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Total area cos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: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rea,j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ja-JP" sz="2400" spc="-1" strike="noStrike">
                <a:solidFill>
                  <a:srgbClr val="d60093"/>
                </a:solidFill>
                <a:latin typeface="Tahoma"/>
              </a:rPr>
              <a:t>func</a:t>
            </a:r>
            <a:r>
              <a:rPr b="1" lang="ja-JP" sz="1800" spc="-1" strike="noStrike">
                <a:solidFill>
                  <a:srgbClr val="d60093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2960" y="2514600"/>
            <a:ext cx="7870680" cy="119700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ep,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the cycle cost of a match 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rea,j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the area cost of a function unit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cc0066"/>
                </a:solidFill>
                <a:latin typeface="Tahoma"/>
              </a:rPr>
              <a:t>func</a:t>
            </a:r>
            <a:r>
              <a:rPr b="1" lang="ja-JP" sz="1800" spc="-1" strike="noStrike">
                <a:solidFill>
                  <a:srgbClr val="cc0066"/>
                </a:solidFill>
                <a:latin typeface="Tahoma"/>
              </a:rPr>
              <a:t>j</a:t>
            </a:r>
            <a:r>
              <a:rPr b="1" lang="ja-JP" sz="2400" spc="-1" strike="noStrike">
                <a:solidFill>
                  <a:srgbClr val="cc0066"/>
                </a:solidFill>
                <a:latin typeface="Tahoma"/>
              </a:rPr>
              <a:t>=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when function unit j is used an instru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59120" y="4021200"/>
            <a:ext cx="5132160" cy="2288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cle cost = 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instru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 cost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402160" y="4508640"/>
            <a:ext cx="507600" cy="497880"/>
            <a:chOff x="5402160" y="4508640"/>
            <a:chExt cx="507600" cy="497880"/>
          </a:xfrm>
        </p:grpSpPr>
        <p:sp>
          <p:nvSpPr>
            <p:cNvPr id="442" name=""/>
            <p:cNvSpPr/>
            <p:nvPr/>
          </p:nvSpPr>
          <p:spPr>
            <a:xfrm>
              <a:off x="5402160" y="4508640"/>
              <a:ext cx="507600" cy="49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86760" y="4757400"/>
              <a:ext cx="33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5960" y="4591080"/>
              <a:ext cx="0" cy="3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808600" y="4970520"/>
            <a:ext cx="33660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78600" y="4130640"/>
            <a:ext cx="37764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789520" y="4149720"/>
            <a:ext cx="371520" cy="39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265360" y="4981680"/>
            <a:ext cx="299880" cy="38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05320" y="4435560"/>
            <a:ext cx="693720" cy="69048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72320" y="44956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232160" y="4506840"/>
            <a:ext cx="507600" cy="498240"/>
            <a:chOff x="4232160" y="4506840"/>
            <a:chExt cx="507600" cy="498240"/>
          </a:xfrm>
        </p:grpSpPr>
        <p:sp>
          <p:nvSpPr>
            <p:cNvPr id="452" name=""/>
            <p:cNvSpPr/>
            <p:nvPr/>
          </p:nvSpPr>
          <p:spPr>
            <a:xfrm>
              <a:off x="4232160" y="4506840"/>
              <a:ext cx="507600" cy="49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16760" y="4755960"/>
              <a:ext cx="338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85960" y="4590000"/>
              <a:ext cx="0" cy="33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002120" y="4165560"/>
            <a:ext cx="33660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86040" y="4145040"/>
            <a:ext cx="10476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5010120"/>
            <a:ext cx="1440" cy="3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40120" y="4464000"/>
            <a:ext cx="507600" cy="498240"/>
            <a:chOff x="2940120" y="4464000"/>
            <a:chExt cx="507600" cy="498240"/>
          </a:xfrm>
        </p:grpSpPr>
        <p:sp>
          <p:nvSpPr>
            <p:cNvPr id="459" name=""/>
            <p:cNvSpPr/>
            <p:nvPr/>
          </p:nvSpPr>
          <p:spPr>
            <a:xfrm>
              <a:off x="2940120" y="4464000"/>
              <a:ext cx="507600" cy="49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24360" y="4713120"/>
              <a:ext cx="33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93920" y="4547160"/>
              <a:ext cx="0" cy="33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687760" y="4133880"/>
            <a:ext cx="345960" cy="4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365280" y="4146480"/>
            <a:ext cx="29988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983120"/>
            <a:ext cx="1800" cy="3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49400" y="4370400"/>
            <a:ext cx="692280" cy="68904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25960" y="4425840"/>
            <a:ext cx="692280" cy="6890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22520" y="480528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62440" y="484992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20920" y="4859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40320" y="490536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32400" y="499284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2:55:43Z</dcterms:created>
  <dc:creator>fujita lab</dc:creator>
  <dc:description/>
  <dc:language>en-US</dc:language>
  <cp:lastModifiedBy>瀬戸　謙修</cp:lastModifiedBy>
  <dcterms:modified xsi:type="dcterms:W3CDTF">2002-06-04T17:21:23Z</dcterms:modified>
  <cp:revision>207</cp:revision>
  <dc:subject/>
  <dc:title>PowerPoint プレゼンテーション</dc:title>
</cp:coreProperties>
</file>